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8C8F-CEC3-4141-8B20-60A73C4641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F69B-96DC-4D12-9C8F-51970283DF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нят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Аристотелю, – это 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 присуще всем предметам данного вида или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им у предметов одного вида (рода) я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огда ка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те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 выступает как принцип индивид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мож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ещи; форма выражает её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ность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.е. то, что в вещи предста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аристотелевской концепции понятия прочно увя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6669-9E49-48EF-96DA-F8617D26EB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применяется, таким образом, 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языке логики это множество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лассом;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щность множества характеризует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ъё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ё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нятие относится к совокупности предметов (предицируется им), то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держания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можно охарактеризовать как совокупность признаков (предицируемых данному понят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ольше признак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ыслится в понятии, т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ньше его объё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.е. тем меньше предметов в классе, обозначаемым данным понятием, и наобор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влекаясь от каких-то признаков, мы получаем более общее понятие; эта операция назыв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бобще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тная операция, заключающаяся в добавлении признаков к общему понятию,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граничением понят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ерация предицирования лежит в основе формы мышления, именуем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7D95-5375-4B23-895B-7D047C80D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ужд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это такая форма мысли, в которой утверждается или отрицается что-либо относительно предметов и явлений, их свойств, связей и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лементарное суждение можно представить в виде формулы: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ждение выражает либо истину, либо лож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8090-BD57-4DD6-8E24-7C2AB11487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ждения делятся, таким образом,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стин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ж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 уже видели, что их можно разделить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твердитель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трицатель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200" spc="-1" strike="noStrike">
                <a:solidFill>
                  <a:srgbClr val="00ffff"/>
                </a:solidFill>
                <a:latin typeface="Arial"/>
              </a:rPr>
              <a:t>по качеству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ристотель подразделяет суждения также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е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част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определён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200" spc="-1" strike="noStrike">
                <a:solidFill>
                  <a:srgbClr val="00ffff"/>
                </a:solidFill>
                <a:latin typeface="Arial"/>
              </a:rPr>
              <a:t>по количеству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EBD8-4184-444A-A0DB-B289D9C8C0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 эти подразделения необходимы для понимания следующей формы мышления – умозаклю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Умозаключ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это такое логическое действие, в результате которого из одного или нескольких – определённым образом связанных – суждений (именуемых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сылкам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получается новое суждени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(вывод)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котором содержится новое 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лементарное умозаключение исходит из одной посылки (такое умозаключение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посредственны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3EA4-17BC-480E-ADB5-AE6345D924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стоверным может считаться лишь необходимый вывод, 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обходимо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язано с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щественны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щее знание выражается в общих суждениях, т.е. в суждениях в которых утверждается присущность признака всем предметам данного класса (вида, рода) или их неприсущность ни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в общем суждении во всём объёме берётся (на языке логики это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аспределённостью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субъект суждения. А что можно сказать о предикате? Количественная характеристика предиката остаётся неопределён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о предикаты распределен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отрицательных суждениях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 равно – общих или частных: отрицая наличие признака у предмета (субъекта высказывания), мы кое-что утверждаем об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се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редметах, обладающих этим признаком, а именно: в их число наш субъект не вход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AF88-A736-4021-A68B-8059F87B52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перь мы можем сформулирова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вое правил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логического выв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4860-F8B0-4C5E-8128-808A9A4F6E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лавной своей заслугой в логике Аристотель считал разработку учения о силлогиз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6008-C2D5-4029-88AD-FEF299E765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321B-6159-4BD8-B057-2EDAEA4576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4408-E97C-4731-8CCA-3758C26B2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8335-92B7-4565-90F8-98196014C2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чувственного опыта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мышления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посредственные умоза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5A86-7736-41B7-962E-3CF0F175F1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ерминов и правила по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иллогизме имеется три термина – не больше и не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ы, не распределённые в посылках, не могут быть распределены в вы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термин должен быть распределён хотя бы в одной из посы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посы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част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частное суждение, то и вывод (если он вообще возможен) может быть только ча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отрицатель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отрицательное суждение, то и вывод должен быть отриц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10C5-57A0-4D6F-B329-C7A8826B50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5731-29ED-4993-89AF-0A4335265F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перво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ньшая посылка должна быть суждением утверд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перво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6484-BD5E-4AEF-A321-57A06E0150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5FC1-0ECA-44D6-B520-14CDB9981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тора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же одно и то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му всему присущ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другому вовсе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присуще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и тому и другом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му присущ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вовсе не присущ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называю втор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F951-72E5-45FC-806F-C61D12CB89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 из посылок должна быть отриц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овательно, отрицательным будет и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второ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6869-33E3-4702-B645-BCCA53017C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5FC3-8D6A-4C77-9724-2B9227D912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ть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му и тому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 присуще всему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другое во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присущ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и то и друго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исущи ему всем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вовсе не присущ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называю треть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F695-9A7F-4D43-979D-7A8E96113B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третье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ньшая посылка должна быть утвердительным сужд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вод – частное суждение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третье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B632-D5B8-44B4-A976-BD722F06E7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2EA9-923A-443F-9393-C6D664968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рга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лк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фистических опровер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EB4E-F733-4A33-9070-4E0EA179C8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амое достоверное из всех начал –</a:t>
            </a:r>
            <a:br>
              <a:rPr sz="1200"/>
            </a:b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то, относительно которого невозможно ошибить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такое начало должно быть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наиболее очевидны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(ведь все обманываются в том, что не очевид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вободным от всякое предполож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йствительно, начало, которое необходимо зна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якому постигающему что-либо из существующего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есть предположение; а то, что необходим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же знать тому, кто познаёт хоть что-нибудь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должен иметь, уже приступая к рассмотр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им образом, ясно, что именно такое начало е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аиболее достоверное из всех; а что это за начало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кажем теперь. А именно: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возможно, чтобы одно и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о же в одно и то же время было и не было присущ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му и тому же в одном и том же отношении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(и всё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ругое, что мы могли бы ещё уточнить, пусть буде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точнено во избежание словесных затруднений)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это, конечно,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амое достоверное из всех начал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 нему подходит данное выше определени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самое достоверное из всех начал –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, относительно которого невозможно ошиб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иболее очевидны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дь все обманываются в том, что не очевид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ым от всякое предполож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ительно, начало, которое необходимо знать всякому постигающему что-либо из существующего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 есть предполож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о, что необходимо уже знать тому, кто познаёт хоть что-нибуд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 должен иметь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же приступая к рассмотр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ясно, что именно такое начало есть наиболее достоверное из всех; а что это за начало, укажем теперь. А имен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возможно, чтобы одно и то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было и не было прису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дному и тому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м и том же отношени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 всё другое, что мы могли бы ещё уточнить, пусть будет уточнено во избежание словесных затруднений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е достоверное из всех начал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 нему подходит данное выше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AFF1-E148-4B6F-8354-14DF056FA2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возможно, чтобы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 и то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одно и то же врем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ыло и не было присущ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му и тому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одном и том же отнош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540F-38FB-47AB-98C7-E171D6302F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5BB0-F0AB-4843-AA51-55C20913C5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Равным образом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 может быть ничего промежуточн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ежду двумя членами противоречия,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а относительно чего-то одного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необходимо что бы то ни было одн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ибо утверждать, либо отриц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сли же ложное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сть не что иное,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ак отрицание истины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сё не может быть ложным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ин из двух членов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отиворечи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олжен быть исти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D217-0C5B-4561-B34B-0069730F71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3823-F94E-48D1-92F3-C1CC70D06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36AE-4A8A-4726-AD51-AF5DB0A5C3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познания Аристотел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ль чувственного опыта и мышления в по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ичное «первично для нас», хотя «вторично по природ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щее (причины и начала) «первично по природе», но «вторично для н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ющая мысль восходит от частного к общ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начинается с чувственного восприятия единичных ве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а мышления – выявить общее и объяснить через его посредство единич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EF98-A360-45EE-B8D5-D61139F1CC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AA9A-363B-4DFC-89ED-2336C98711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оворить 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сущем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что ег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т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-сущем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что он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ест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ожное;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говорить, чт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сущее е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-сущее не ест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стин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81F0-E511-44AD-963D-F31A4BD45E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... Истина определя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согласованно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жду интеллек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вещ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0569-F2C9-4248-A2D6-E7241C141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λογική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ука о мышлении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ука о законах, формах и приёмах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слительной познавательной деятельности.</a:t>
            </a:r>
            <a:br>
              <a:rPr sz="1200"/>
            </a:br>
            <a:br>
              <a:rPr sz="12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(Термин «логика» ввели, по-видимому, стоики.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Сам Аристотель своё логическое учение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называл «аналитикой»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1F54-09B1-423C-989A-EEC50B8B2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– наука о формах мышления Содержание и форм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AC46-8C8A-4971-B662-4434AFD7B0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03F-71CB-451B-8A12-3C1D4101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605-5B53-4349-876B-92700E3B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EF8-3A16-456E-901D-9F291CF9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5F5E-0CF8-442D-84B7-C6050772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773-8504-4359-A14B-9A5915F8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C1E-C450-4FD8-A113-C634B386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2BA-DAB2-4D48-AD74-A3B84B2D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4A5-D841-42C6-AC18-A1C3198E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FD8F-7572-4B42-9689-C0B19346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8B4-1B6C-46DE-BDBE-DFE6C1CF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FA0-1565-483A-91A1-CFBEE9BC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568-8738-424C-8182-696F4520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8E04-52CC-471B-A0A5-28D4EA86B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нят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Аристотелю, – это 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 присуще всем предметам данного вида или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им у предметов одного вида (рода) я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огда ка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те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 выступает как принцип индивид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мож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ещи; форма выражает её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ность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.е. то, что в вещи предста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аристотелевской концепции понятия прочно увя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 rot="10800000">
            <a:off x="3238200" y="4030200"/>
            <a:ext cx="3598920" cy="251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у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а обще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413480" y="3994200"/>
            <a:ext cx="806760" cy="1971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6804720" y="6081840"/>
            <a:ext cx="228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торая аналит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применяется, таким образом, 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языке логики это множество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лассом;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щность множества характеризует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ъё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ё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нятие относится к совокупности предметов (предицируется им), то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держания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можно охарактеризовать как совокупность признаков (предицируемых данному понят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ольше признак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ыслится в понятии, т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ньше его объё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.е. тем меньше предметов в классе, обозначаемым данным понятием, и наобор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влекаясь от каких-то признаков, мы получаем более общее понятие; эта операция назыв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бобще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тная операция, заключающаяся в добавлении признаков к общему понятию,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граничением понят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ерация предицирования лежит в основе формы мышления, именуем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жд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это такая форма мысли, в которой утверждается или отрицается что-либо относительно предметов и явлений, их свойств, связей и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рное суждение можно представить в виде формулы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 выражает либо истину, либо лож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65480" y="3094200"/>
            <a:ext cx="1079640" cy="323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(не) 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3489480" y="2949480"/>
            <a:ext cx="610920" cy="61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5110200" y="2949480"/>
            <a:ext cx="611280" cy="61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 rot="10800000">
            <a:off x="325080" y="4258800"/>
            <a:ext cx="8637480" cy="2340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на же и глаголы сами по себе подобны мысли без связы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разъединения, например «человек» или «белое»;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прибавляется, нет ни ложного, ни истинного, хот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и обозначают что-то: ведь и «козлоолень» что-то обознач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щё не истинно и не ложно, когда не прибавлен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лагол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быть» или «не быть» – либо вообще, либо касательно врем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я делятся, таким образом,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ин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о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уже видели, что их можно разделить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тверди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ица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по качеств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 подразделяет суждения также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пределён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по количеств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rot="10800000">
            <a:off x="539640" y="3381120"/>
            <a:ext cx="6478560" cy="32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й я называю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сылку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присущ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 или не присущем ни одному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астной – о присущем или не присущ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м или присущем не все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ределённой – о присущем ил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м без указания т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ая ли она или частная, как, например, </a:t>
            </a:r>
            <a:br>
              <a:rPr sz="1800"/>
            </a:b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удовольствие не есть благо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413480" y="3381480"/>
            <a:ext cx="968400" cy="2367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6798240" y="6081840"/>
            <a:ext cx="229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Первая аналит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5"/>
          <p:cNvSpPr/>
          <p:nvPr/>
        </p:nvSpPr>
        <p:spPr>
          <a:xfrm>
            <a:off x="4138560" y="5829480"/>
            <a:ext cx="71928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478620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"/>
          <p:cNvSpPr/>
          <p:nvPr/>
        </p:nvSpPr>
        <p:spPr>
          <a:xfrm>
            <a:off x="313056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140360" y="4570560"/>
            <a:ext cx="71892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478620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13056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эти подразделения необходимы для понимания следующей формы мышления – умоза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мозаключ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это такое логическое действие, в результате которого из одного или нескольких – определённым образом связанных – суждений (именуемых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сылка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получается новое суждени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(вывод)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отором содержится новое 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рное умозаключение исходит из одной посылки (такое умозаключение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посредственны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478620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313056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313056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478620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оверным может считаться лишь необходимый вывод, 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язано с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ественны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знание выражается в общих суждениях, т.е. в суждениях в которых утверждается присущность признака всем предметам данного класса (вида, рода) или их неприсущность ни од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в общем суждении во всём объёме берётся (на языке логики это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пределённост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субъект суждения. А что можно сказать о предикате? Количественная характеристика предиката остаётся неопределё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о предикаты распределены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отрицательных суждениях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ё равно – общих или частных: отрицая наличие признака у предмета (субъекта высказывания), мы кое-что утверждаем об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х, обладающих этим признаком, а именно: в их число наш субъект не вхо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перь мы можем сформулирова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вое правил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логического вы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2050920" y="2698920"/>
            <a:ext cx="503892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ли термин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распределён в посылк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н не может быть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спределён в вы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ой своей заслугой в логике Аристотель считал разработку учения о силлог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305080" y="2698920"/>
            <a:ext cx="449892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иллог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συλλογισμό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 умозаключения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редством котор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авл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ое отнош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двумя понятия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основании их отнош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екоему третьему понят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3201840" y="3346560"/>
            <a:ext cx="2735280" cy="718920"/>
          </a:xfrm>
          <a:prstGeom prst="rightArrow">
            <a:avLst>
              <a:gd name="adj1" fmla="val 50000"/>
              <a:gd name="adj2" fmla="val 95118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3201840" y="1835280"/>
            <a:ext cx="2735280" cy="718920"/>
          </a:xfrm>
          <a:prstGeom prst="rightArrow">
            <a:avLst>
              <a:gd name="adj1" fmla="val 50000"/>
              <a:gd name="adj2" fmla="val 95118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3201840" y="5433840"/>
            <a:ext cx="2735280" cy="719280"/>
          </a:xfrm>
          <a:prstGeom prst="rightArrow">
            <a:avLst>
              <a:gd name="adj1" fmla="val 50000"/>
              <a:gd name="adj2" fmla="val 9507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 rot="1080000">
            <a:off x="3057480" y="2806560"/>
            <a:ext cx="3095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798560" y="5073480"/>
            <a:ext cx="144000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593712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870200" y="4570560"/>
            <a:ext cx="54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 rot="1080000">
            <a:off x="3057480" y="2806560"/>
            <a:ext cx="3095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593712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4"/>
          <p:cNvSpPr/>
          <p:nvPr/>
        </p:nvSpPr>
        <p:spPr>
          <a:xfrm>
            <a:off x="179856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179856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593712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89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9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чувственного опыта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мышления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посредственные умоза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0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ерминов и правила по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иллогизме имеется три термина – не больше и не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ы, не распределённые в посылках, не могут быть распределены в вы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термин должен быть распределён хотя бы в одной из посы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посы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част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частное суждение, то и вывод (если он вообще возможен) может быть только ча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отрицатель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отрицательное суждение, то и вывод должен быть отриц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перв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ьшая посылка должна быть суждением утверди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1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перв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233856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1222200" y="266220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53964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719784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340000" y="492912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7197840" y="492912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6081840" y="266220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222200" y="5181480"/>
            <a:ext cx="93528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6081840" y="5181480"/>
            <a:ext cx="93492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539748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53964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7"/>
          <p:cNvSpPr/>
          <p:nvPr/>
        </p:nvSpPr>
        <p:spPr>
          <a:xfrm>
            <a:off x="539748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3964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539748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53964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539748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48 0 E">
                                      <p:cBhvr>
                                        <p:cTn id="1269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41 0 E">
                                      <p:cBhvr>
                                        <p:cTn id="127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0 E">
                                      <p:cBhvr>
                                        <p:cTn id="129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445 0 E">
                                      <p:cBhvr>
                                        <p:cTn id="1298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11111E-006 L 0.12622 0.00185 E">
                                      <p:cBhvr>
                                        <p:cTn id="1319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0.17726 0.00185 E">
                                      <p:cBhvr>
                                        <p:cTn id="1323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0.14618 0.00185 E">
                                      <p:cBhvr>
                                        <p:cTn id="134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63 0 E">
                                      <p:cBhvr>
                                        <p:cTn id="1348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тор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одно и то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му всему присущ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другому вовс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и тому и друг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у прису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 не присущ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азываю втор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 rot="5400000">
            <a:off x="7628400" y="269928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872 0 E">
                                      <p:cBhvr>
                                        <p:cTn id="1402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 rot="5400000">
            <a:off x="7628400" y="269928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 из посылок должна быть отриц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овательно, отрицательным будет и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"/>
          <p:cNvSpPr/>
          <p:nvPr/>
        </p:nvSpPr>
        <p:spPr>
          <a:xfrm>
            <a:off x="1222200" y="240984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"/>
          <p:cNvSpPr/>
          <p:nvPr/>
        </p:nvSpPr>
        <p:spPr>
          <a:xfrm>
            <a:off x="2841480" y="266220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"/>
          <p:cNvSpPr/>
          <p:nvPr/>
        </p:nvSpPr>
        <p:spPr>
          <a:xfrm>
            <a:off x="53964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608184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1222200" y="492912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8"/>
          <p:cNvSpPr/>
          <p:nvPr/>
        </p:nvSpPr>
        <p:spPr>
          <a:xfrm>
            <a:off x="6081840" y="492912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9"/>
          <p:cNvSpPr/>
          <p:nvPr/>
        </p:nvSpPr>
        <p:spPr>
          <a:xfrm>
            <a:off x="7701120" y="266220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0"/>
          <p:cNvSpPr/>
          <p:nvPr/>
        </p:nvSpPr>
        <p:spPr>
          <a:xfrm>
            <a:off x="2841480" y="5181480"/>
            <a:ext cx="93528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7701120" y="5181480"/>
            <a:ext cx="93492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"/>
          <p:cNvSpPr/>
          <p:nvPr/>
        </p:nvSpPr>
        <p:spPr>
          <a:xfrm>
            <a:off x="539748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"/>
          <p:cNvSpPr/>
          <p:nvPr/>
        </p:nvSpPr>
        <p:spPr>
          <a:xfrm>
            <a:off x="53964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4"/>
          <p:cNvSpPr/>
          <p:nvPr/>
        </p:nvSpPr>
        <p:spPr>
          <a:xfrm>
            <a:off x="539748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53964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539748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53964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539748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184 0 E">
                                      <p:cBhvr>
                                        <p:cTn id="1504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1508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65 0 E">
                                      <p:cBhvr>
                                        <p:cTn id="152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822 0 E">
                                      <p:cBhvr>
                                        <p:cTn id="1533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66 0 E">
                                      <p:cBhvr>
                                        <p:cTn id="1554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267 0 E">
                                      <p:cBhvr>
                                        <p:cTn id="1558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604 0 E">
                                      <p:cBhvr>
                                        <p:cTn id="1579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86 0 E">
                                      <p:cBhvr>
                                        <p:cTn id="158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ть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е</a:t>
            </a:r>
            <a:br>
              <a:rPr sz="18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9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му и то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 присуще вс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другое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и то и друг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сущи ему все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 не присущ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азываю треть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4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5"/>
          <p:cNvSpPr/>
          <p:nvPr/>
        </p:nvSpPr>
        <p:spPr>
          <a:xfrm rot="16200000">
            <a:off x="759204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0 E">
                                      <p:cBhvr>
                                        <p:cTn id="1637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ретье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е</a:t>
            </a:r>
            <a:br>
              <a:rPr sz="1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ьшая посылка должна быть утвердительным 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од – частное суждение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nodeType="clickEffect" fill="hold">
                      <p:stCondLst>
                        <p:cond delay="indefinite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nodeType="clickEffect" fill="hold">
                      <p:stCondLst>
                        <p:cond delay="indefinite"/>
                      </p:stCondLst>
                      <p:childTnLst>
                        <p:par>
                          <p:cTn id="1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Oval 25"/>
          <p:cNvSpPr/>
          <p:nvPr/>
        </p:nvSpPr>
        <p:spPr>
          <a:xfrm>
            <a:off x="7197840" y="511020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третье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2338560" y="187020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4"/>
          <p:cNvSpPr/>
          <p:nvPr/>
        </p:nvSpPr>
        <p:spPr>
          <a:xfrm>
            <a:off x="539640" y="212256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5"/>
          <p:cNvSpPr/>
          <p:nvPr/>
        </p:nvSpPr>
        <p:spPr>
          <a:xfrm>
            <a:off x="1654200" y="2338560"/>
            <a:ext cx="503280" cy="5029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6"/>
          <p:cNvSpPr/>
          <p:nvPr/>
        </p:nvSpPr>
        <p:spPr>
          <a:xfrm>
            <a:off x="7197840" y="187020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7"/>
          <p:cNvSpPr/>
          <p:nvPr/>
        </p:nvSpPr>
        <p:spPr>
          <a:xfrm>
            <a:off x="2340000" y="348948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8"/>
          <p:cNvSpPr/>
          <p:nvPr/>
        </p:nvSpPr>
        <p:spPr>
          <a:xfrm>
            <a:off x="7197840" y="348948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9"/>
          <p:cNvSpPr/>
          <p:nvPr/>
        </p:nvSpPr>
        <p:spPr>
          <a:xfrm>
            <a:off x="5397480" y="212256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539640" y="374184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1"/>
          <p:cNvSpPr/>
          <p:nvPr/>
        </p:nvSpPr>
        <p:spPr>
          <a:xfrm>
            <a:off x="5397480" y="374184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2"/>
          <p:cNvSpPr/>
          <p:nvPr/>
        </p:nvSpPr>
        <p:spPr>
          <a:xfrm>
            <a:off x="6513480" y="2338560"/>
            <a:ext cx="503280" cy="5029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3"/>
          <p:cNvSpPr/>
          <p:nvPr/>
        </p:nvSpPr>
        <p:spPr>
          <a:xfrm>
            <a:off x="1654200" y="395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4"/>
          <p:cNvSpPr/>
          <p:nvPr/>
        </p:nvSpPr>
        <p:spPr>
          <a:xfrm>
            <a:off x="6513480" y="395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539640" y="169056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5397480" y="169056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539640" y="330984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5397480" y="330984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2374920" y="511020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20"/>
          <p:cNvSpPr/>
          <p:nvPr/>
        </p:nvSpPr>
        <p:spPr>
          <a:xfrm>
            <a:off x="539640" y="536112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22"/>
          <p:cNvSpPr/>
          <p:nvPr/>
        </p:nvSpPr>
        <p:spPr>
          <a:xfrm>
            <a:off x="5397480" y="536112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23"/>
          <p:cNvSpPr/>
          <p:nvPr/>
        </p:nvSpPr>
        <p:spPr>
          <a:xfrm>
            <a:off x="1654200" y="557676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4"/>
          <p:cNvSpPr/>
          <p:nvPr/>
        </p:nvSpPr>
        <p:spPr>
          <a:xfrm>
            <a:off x="6513480" y="557676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6"/>
          <p:cNvSpPr/>
          <p:nvPr/>
        </p:nvSpPr>
        <p:spPr>
          <a:xfrm>
            <a:off x="539640" y="492912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7"/>
          <p:cNvSpPr/>
          <p:nvPr/>
        </p:nvSpPr>
        <p:spPr>
          <a:xfrm>
            <a:off x="5397480" y="492912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nodeType="clickEffect" fill="hold">
                      <p:stCondLst>
                        <p:cond delay="indefinite"/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865 0 E">
                                      <p:cBhvr>
                                        <p:cTn id="1738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82 0 E">
                                      <p:cBhvr>
                                        <p:cTn id="1742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504 0 E">
                                      <p:cBhvr>
                                        <p:cTn id="176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0 E">
                                      <p:cBhvr>
                                        <p:cTn id="1767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46 0 E">
                                      <p:cBhvr>
                                        <p:cTn id="1788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521 0 E">
                                      <p:cBhvr>
                                        <p:cTn id="1792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5 0 E">
                                      <p:cBhvr>
                                        <p:cTn id="1813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43 0 E">
                                      <p:cBhvr>
                                        <p:cTn id="1817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delay="indefinite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64 0 E">
                                      <p:cBhvr>
                                        <p:cTn id="183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941 0 E">
                                      <p:cBhvr>
                                        <p:cTn id="1841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302 0 E">
                                      <p:cBhvr>
                                        <p:cTn id="1845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4 0 E">
                                      <p:cBhvr>
                                        <p:cTn id="1866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0 E">
                                      <p:cBhvr>
                                        <p:cTn id="1870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63640" y="2878200"/>
            <a:ext cx="403848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рга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лк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фистических опровер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445800" y="5576760"/>
            <a:ext cx="1684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84-3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ristoteles (Kopenhagen, Ny Carlsberg Glyptothek 1 - red-ed)"/>
          <p:cNvPicPr/>
          <p:nvPr/>
        </p:nvPicPr>
        <p:blipFill>
          <a:blip r:embed="rId1"/>
          <a:stretch/>
        </p:blipFill>
        <p:spPr>
          <a:xfrm>
            <a:off x="5937120" y="1619280"/>
            <a:ext cx="262908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 rot="10800000">
            <a:off x="69480" y="1294920"/>
            <a:ext cx="7916760" cy="547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амое достоверное из всех начал –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о, относительно которого невозможно ошиби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иболее очевид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дь все обманываются в том, что не очевид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вободным от всякое предполож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, начало, которое необходимо зн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ому постигающему что-либо из существую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 предположение; а то, что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знать тому, кто познаёт хоть что-нибуд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иметь, уже приступая к рассмотр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ясно, что именно такое начало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иболее достоверное из всех; а что это за начал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ажем теперь. А именно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, чтобы одно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же в одно и то же время было и не было прису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му и тому же в одном и том же отношени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и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е, что мы могли бы ещё уточнить, пусть 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очнено во избежание словесных затруднений)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амое достоверное из всех нач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ему подходит данное выше опреде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727380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521480" y="2014560"/>
            <a:ext cx="1454400" cy="355104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5760" y="1349280"/>
            <a:ext cx="85899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самое достоверное из всех начал –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, относительно которого невозможно ошиб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иболее очевидны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дь все обманываются в том, что не очевид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ым от всякое предполож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ительно, начало, которое необходимо знать всякому постигающему что-либо из существующего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 есть предполож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о, что необходимо уже знать тому, кто познаёт хоть что-нибуд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 должен иметь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же приступая к рассмотр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ясно, что именно такое начало есть наиболее достоверное из всех; а что это за начало, укажем теперь. А имен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возможно, чтобы одно и то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было и не было прису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дному и тому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м и том же отношени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 всё другое, что мы могли бы ещё уточнить, пусть будет уточнено во избежание словесных затруднений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е достоверное из всех начал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 нему подходит данное выше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nodeType="clickEffect" fill="hold">
                      <p:stCondLst>
                        <p:cond delay="indefinite"/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nodeType="clickEffect" fill="hold">
                      <p:stCondLst>
                        <p:cond delay="indefinite"/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nodeType="clickEffect" fill="hold">
                      <p:stCondLst>
                        <p:cond delay="indefinite"/>
                      </p:stCondLst>
                      <p:childTnLst>
                        <p:par>
                          <p:cTn id="1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863640" y="1978200"/>
            <a:ext cx="5038560" cy="3238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возможно, чтобы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 и то ж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одно и то же врем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ло и не было присущ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му и тому ж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одном и том же отнош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692760" y="1546200"/>
            <a:ext cx="1695600" cy="41418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8"/>
          <p:cNvSpPr/>
          <p:nvPr/>
        </p:nvSpPr>
        <p:spPr>
          <a:xfrm>
            <a:off x="684216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nodeType="clickEffect" fill="hold">
                      <p:stCondLst>
                        <p:cond delay="indefinite"/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3"/>
          <p:cNvSpPr/>
          <p:nvPr/>
        </p:nvSpPr>
        <p:spPr>
          <a:xfrm rot="10800000">
            <a:off x="250920" y="172656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вным образ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быть ничего промежуточ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 двумя членами противореч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относительно чего-то одн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обходимо что бы то ни было од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бо утверждать, либо отриц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695304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872400" y="1654200"/>
            <a:ext cx="1695240" cy="41418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863640" y="1978200"/>
            <a:ext cx="5038560" cy="3238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ли же ложное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ть не что ино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 отрицание истины,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ё не может быть ложным,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ин из двух членов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тивореч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жен быть исти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692760" y="1546200"/>
            <a:ext cx="1695600" cy="41418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684216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nodeType="clickEffect" fill="hold">
                      <p:stCondLst>
                        <p:cond delay="indefinite"/>
                      </p:stCondLst>
                      <p:childTnLst>
                        <p:par>
                          <p:cTn id="2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179280" y="3057480"/>
            <a:ext cx="288000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1619280" y="2878200"/>
            <a:ext cx="296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AutoShape 7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5" name="AutoShape 8"/>
          <p:cNvCxnSpPr/>
          <p:nvPr/>
        </p:nvCxnSpPr>
        <p:spPr>
          <a:xfrm>
            <a:off x="161928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6" name="AutoShape 9"/>
          <p:cNvCxnSpPr/>
          <p:nvPr/>
        </p:nvCxnSpPr>
        <p:spPr>
          <a:xfrm>
            <a:off x="755604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07" name="AutoShape 10"/>
          <p:cNvSpPr/>
          <p:nvPr/>
        </p:nvSpPr>
        <p:spPr>
          <a:xfrm>
            <a:off x="3147840" y="3057480"/>
            <a:ext cx="288000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1"/>
          <p:cNvSpPr/>
          <p:nvPr/>
        </p:nvSpPr>
        <p:spPr>
          <a:xfrm>
            <a:off x="6116760" y="305748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исключё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AutoShape 12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0" name="Line 13"/>
          <p:cNvSpPr/>
          <p:nvPr/>
        </p:nvSpPr>
        <p:spPr>
          <a:xfrm>
            <a:off x="4587840" y="2878200"/>
            <a:ext cx="296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8"/>
          <p:cNvSpPr/>
          <p:nvPr/>
        </p:nvSpPr>
        <p:spPr>
          <a:xfrm>
            <a:off x="647640" y="4497480"/>
            <a:ext cx="19432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9"/>
          <p:cNvSpPr/>
          <p:nvPr/>
        </p:nvSpPr>
        <p:spPr>
          <a:xfrm>
            <a:off x="3616200" y="4497480"/>
            <a:ext cx="19432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A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1"/>
          <p:cNvSpPr/>
          <p:nvPr/>
        </p:nvSpPr>
        <p:spPr>
          <a:xfrm>
            <a:off x="3184200" y="5218200"/>
            <a:ext cx="287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могут быт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временно истинны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ва  противополож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сказывания о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м и том же предме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6585120" y="4497480"/>
            <a:ext cx="1942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~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4" descr="or"/>
          <p:cNvPicPr/>
          <p:nvPr/>
        </p:nvPicPr>
        <p:blipFill>
          <a:blip r:embed="rId1"/>
          <a:stretch/>
        </p:blipFill>
        <p:spPr>
          <a:xfrm>
            <a:off x="155520" y="46080"/>
            <a:ext cx="95400" cy="1047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5"/>
          <p:cNvSpPr/>
          <p:nvPr/>
        </p:nvSpPr>
        <p:spPr>
          <a:xfrm>
            <a:off x="6131160" y="5218200"/>
            <a:ext cx="289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дву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тивополож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сказываний о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м и том же предме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 непременно исти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6"/>
          <p:cNvSpPr/>
          <p:nvPr/>
        </p:nvSpPr>
        <p:spPr>
          <a:xfrm>
            <a:off x="78120" y="5218200"/>
            <a:ext cx="3089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гические вывод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дёжны лишь при условии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все понятия (термины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пределах рассужд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еют один и тот же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nodeType="clickEffect" fill="hold">
                      <p:stCondLst>
                        <p:cond delay="indefinite"/>
                      </p:stCondLst>
                      <p:childTnLst>
                        <p:par>
                          <p:cTn id="2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5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nodeType="clickEffect" fill="hold">
                      <p:stCondLst>
                        <p:cond delay="indefinite"/>
                      </p:stCondLst>
                      <p:childTnLst>
                        <p:par>
                          <p:cTn id="2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8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9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nodeType="clickEffect" fill="hold">
                      <p:stCondLst>
                        <p:cond delay="indefinite"/>
                      </p:stCondLst>
                      <p:childTnLst>
                        <p:par>
                          <p:cTn id="2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0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nodeType="clickEffect" fill="hold">
                      <p:stCondLst>
                        <p:cond delay="indefinite"/>
                      </p:stCondLst>
                      <p:childTnLst>
                        <p:par>
                          <p:cTn id="2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7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8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0" dur="indefinite" restart="never" nodeType="tmRoot">
          <p:childTnLst>
            <p:seq>
              <p:cTn id="2111" dur="indefinite" nodeType="mainSeq">
                <p:childTnLst>
                  <p:par>
                    <p:cTn id="2112" nodeType="clickEffect" fill="hold">
                      <p:stCondLst>
                        <p:cond delay="0"/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nodeType="clickEffect" fill="hold">
                      <p:stCondLst>
                        <p:cond delay="indefinite"/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Роль чувственного опыта и мышления в познан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ичное «первично для нас», хотя «вторично по природ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(причины и начала) «первично по природе», но «вторично для на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ющая мысль восходит от частного к общ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начинается с чувственного восприятия единичных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а мышления – выявить общее и объяснить через его посредство единич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 rot="10800000">
            <a:off x="539640" y="1726560"/>
            <a:ext cx="57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ить 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ущ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то ег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-сущ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то он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ест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ое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говорить, чт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уще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-сущее не ест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ин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695304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872400" y="1654200"/>
            <a:ext cx="1695240" cy="41418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10800000">
            <a:off x="3127320" y="1726560"/>
            <a:ext cx="57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Истина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нтеллек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щь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5000" y="5973840"/>
            <a:ext cx="23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ма Акв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мма теолог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Фома Аквинский (Гоццоли - red)"/>
          <p:cNvPicPr/>
          <p:nvPr/>
        </p:nvPicPr>
        <p:blipFill>
          <a:blip r:embed="rId1"/>
          <a:stretch/>
        </p:blipFill>
        <p:spPr>
          <a:xfrm>
            <a:off x="216000" y="1727280"/>
            <a:ext cx="2657520" cy="39337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619280" y="1978200"/>
            <a:ext cx="5938920" cy="313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Лог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λογικ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ука о мышлен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ка о законах, формах и приём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слительной познавательной деятельности.</a:t>
            </a:r>
            <a:br>
              <a:rPr sz="1800"/>
            </a:br>
            <a:br>
              <a:rPr sz="18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Термин «логика» ввели, по-видимому, стоики.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ам Аристотель своё логическое учение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азывал «аналитикой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– наука о формах мышления Содержание и формы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87280" y="194328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5"/>
          <p:cNvCxnSpPr/>
          <p:nvPr/>
        </p:nvCxnSpPr>
        <p:spPr>
          <a:xfrm>
            <a:off x="1437840" y="2517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1" name="Oval 6"/>
          <p:cNvSpPr/>
          <p:nvPr/>
        </p:nvSpPr>
        <p:spPr>
          <a:xfrm>
            <a:off x="1619280" y="194328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7"/>
          <p:cNvSpPr/>
          <p:nvPr/>
        </p:nvSpPr>
        <p:spPr>
          <a:xfrm>
            <a:off x="287280" y="345456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"/>
          <p:cNvSpPr/>
          <p:nvPr/>
        </p:nvSpPr>
        <p:spPr>
          <a:xfrm>
            <a:off x="1619280" y="345456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9"/>
          <p:cNvCxnSpPr/>
          <p:nvPr/>
        </p:nvCxnSpPr>
        <p:spPr>
          <a:xfrm>
            <a:off x="1437840" y="403020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5" name="Oval 10"/>
          <p:cNvSpPr/>
          <p:nvPr/>
        </p:nvSpPr>
        <p:spPr>
          <a:xfrm>
            <a:off x="287280" y="496584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авр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11"/>
          <p:cNvCxnSpPr/>
          <p:nvPr/>
        </p:nvCxnSpPr>
        <p:spPr>
          <a:xfrm>
            <a:off x="1437840" y="5541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7" name="Oval 12"/>
          <p:cNvSpPr/>
          <p:nvPr/>
        </p:nvSpPr>
        <p:spPr>
          <a:xfrm>
            <a:off x="1619280" y="496584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лебопё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14"/>
          <p:cNvCxnSpPr/>
          <p:nvPr/>
        </p:nvCxnSpPr>
        <p:spPr>
          <a:xfrm>
            <a:off x="4462200" y="251748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cxnSp>
        <p:nvCxnSpPr>
          <p:cNvPr id="89" name="AutoShape 17"/>
          <p:cNvCxnSpPr/>
          <p:nvPr/>
        </p:nvCxnSpPr>
        <p:spPr>
          <a:xfrm>
            <a:off x="4462200" y="403020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0" name="Rectangle 19"/>
          <p:cNvSpPr/>
          <p:nvPr/>
        </p:nvSpPr>
        <p:spPr>
          <a:xfrm>
            <a:off x="6405480" y="194328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20"/>
          <p:cNvCxnSpPr/>
          <p:nvPr/>
        </p:nvCxnSpPr>
        <p:spPr>
          <a:xfrm>
            <a:off x="7556040" y="2517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2" name="Rectangle 21"/>
          <p:cNvSpPr/>
          <p:nvPr/>
        </p:nvSpPr>
        <p:spPr>
          <a:xfrm>
            <a:off x="7737480" y="194328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путник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6405480" y="345456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23"/>
          <p:cNvCxnSpPr/>
          <p:nvPr/>
        </p:nvCxnSpPr>
        <p:spPr>
          <a:xfrm>
            <a:off x="7556040" y="403020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5" name="Rectangle 24"/>
          <p:cNvSpPr/>
          <p:nvPr/>
        </p:nvSpPr>
        <p:spPr>
          <a:xfrm>
            <a:off x="7737480" y="345456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олица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кра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6405480" y="496584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Шексп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26"/>
          <p:cNvCxnSpPr/>
          <p:nvPr/>
        </p:nvCxnSpPr>
        <p:spPr>
          <a:xfrm>
            <a:off x="7556040" y="5541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8" name="Rectangle 27"/>
          <p:cNvSpPr/>
          <p:nvPr/>
        </p:nvSpPr>
        <p:spPr>
          <a:xfrm>
            <a:off x="7737480" y="496584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втор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«Отелл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29"/>
          <p:cNvCxnSpPr/>
          <p:nvPr/>
        </p:nvCxnSpPr>
        <p:spPr>
          <a:xfrm>
            <a:off x="4462200" y="554148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100" name="AutoShape 13"/>
          <p:cNvSpPr/>
          <p:nvPr/>
        </p:nvSpPr>
        <p:spPr>
          <a:xfrm>
            <a:off x="2986200" y="176220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го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4678200" y="176220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6"/>
          <p:cNvSpPr/>
          <p:nvPr/>
        </p:nvSpPr>
        <p:spPr>
          <a:xfrm>
            <a:off x="2986200" y="327348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ие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4678200" y="327348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яд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8"/>
          <p:cNvSpPr/>
          <p:nvPr/>
        </p:nvSpPr>
        <p:spPr>
          <a:xfrm>
            <a:off x="2986200" y="478620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0"/>
          <p:cNvSpPr/>
          <p:nvPr/>
        </p:nvSpPr>
        <p:spPr>
          <a:xfrm>
            <a:off x="4678200" y="478620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36"/>
          <p:cNvSpPr/>
          <p:nvPr/>
        </p:nvSpPr>
        <p:spPr>
          <a:xfrm>
            <a:off x="6116760" y="4317840"/>
            <a:ext cx="2519280" cy="2448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6189840" y="5218200"/>
            <a:ext cx="237456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7"/>
          <p:cNvSpPr/>
          <p:nvPr/>
        </p:nvSpPr>
        <p:spPr>
          <a:xfrm>
            <a:off x="6189840" y="4497480"/>
            <a:ext cx="237456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9"/>
          <p:cNvSpPr/>
          <p:nvPr/>
        </p:nvSpPr>
        <p:spPr>
          <a:xfrm rot="2700000">
            <a:off x="7016760" y="5145120"/>
            <a:ext cx="719280" cy="71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3327480" y="4317840"/>
            <a:ext cx="2519280" cy="118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539640" y="305748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179856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9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7" name="AutoShape 10"/>
          <p:cNvCxnSpPr/>
          <p:nvPr/>
        </p:nvCxnSpPr>
        <p:spPr>
          <a:xfrm>
            <a:off x="179820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8" name="AutoShape 11"/>
          <p:cNvCxnSpPr/>
          <p:nvPr/>
        </p:nvCxnSpPr>
        <p:spPr>
          <a:xfrm>
            <a:off x="737712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19" name="AutoShape 15"/>
          <p:cNvSpPr/>
          <p:nvPr/>
        </p:nvSpPr>
        <p:spPr>
          <a:xfrm>
            <a:off x="332748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611676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мо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8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22" name="Line 19"/>
          <p:cNvSpPr/>
          <p:nvPr/>
        </p:nvSpPr>
        <p:spPr>
          <a:xfrm>
            <a:off x="458784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2"/>
          <p:cNvSpPr/>
          <p:nvPr/>
        </p:nvSpPr>
        <p:spPr>
          <a:xfrm>
            <a:off x="539640" y="4317840"/>
            <a:ext cx="1224000" cy="12240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1870200" y="4317840"/>
            <a:ext cx="118728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3381480" y="4371840"/>
            <a:ext cx="107928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7"/>
          <p:cNvSpPr/>
          <p:nvPr/>
        </p:nvSpPr>
        <p:spPr>
          <a:xfrm>
            <a:off x="4713120" y="437184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9"/>
          <p:cNvSpPr/>
          <p:nvPr/>
        </p:nvSpPr>
        <p:spPr>
          <a:xfrm>
            <a:off x="3327480" y="5576760"/>
            <a:ext cx="2519280" cy="118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539640" y="5576760"/>
            <a:ext cx="118764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Лу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1"/>
          <p:cNvSpPr/>
          <p:nvPr/>
        </p:nvSpPr>
        <p:spPr>
          <a:xfrm>
            <a:off x="1870200" y="5576760"/>
            <a:ext cx="118728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Спут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462560" y="4875120"/>
            <a:ext cx="252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3"/>
          <p:cNvSpPr/>
          <p:nvPr/>
        </p:nvSpPr>
        <p:spPr>
          <a:xfrm>
            <a:off x="3381480" y="5630760"/>
            <a:ext cx="107928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у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4462560" y="6135840"/>
            <a:ext cx="252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5"/>
          <p:cNvSpPr/>
          <p:nvPr/>
        </p:nvSpPr>
        <p:spPr>
          <a:xfrm>
            <a:off x="4713120" y="5630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путник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/>
          <p:cNvSpPr/>
          <p:nvPr/>
        </p:nvSpPr>
        <p:spPr>
          <a:xfrm>
            <a:off x="6189840" y="5937120"/>
            <a:ext cx="2374560" cy="648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0"/>
          <p:cNvSpPr/>
          <p:nvPr/>
        </p:nvSpPr>
        <p:spPr>
          <a:xfrm>
            <a:off x="6224760" y="4533840"/>
            <a:ext cx="1008000" cy="576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7232760" y="4786200"/>
            <a:ext cx="287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2"/>
          <p:cNvSpPr/>
          <p:nvPr/>
        </p:nvSpPr>
        <p:spPr>
          <a:xfrm>
            <a:off x="7521480" y="4533840"/>
            <a:ext cx="1008000" cy="5763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уждаю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3"/>
          <p:cNvSpPr/>
          <p:nvPr/>
        </p:nvSpPr>
        <p:spPr>
          <a:xfrm>
            <a:off x="6224760" y="5253120"/>
            <a:ext cx="1008000" cy="5763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4"/>
          <p:cNvSpPr/>
          <p:nvPr/>
        </p:nvSpPr>
        <p:spPr>
          <a:xfrm>
            <a:off x="7232760" y="5505480"/>
            <a:ext cx="287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5"/>
          <p:cNvSpPr/>
          <p:nvPr/>
        </p:nvSpPr>
        <p:spPr>
          <a:xfrm>
            <a:off x="7521480" y="5253120"/>
            <a:ext cx="1008000" cy="576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6"/>
          <p:cNvSpPr/>
          <p:nvPr/>
        </p:nvSpPr>
        <p:spPr>
          <a:xfrm>
            <a:off x="6224760" y="5973840"/>
            <a:ext cx="1008000" cy="5763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лед.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7232760" y="6224760"/>
            <a:ext cx="287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8"/>
          <p:cNvSpPr/>
          <p:nvPr/>
        </p:nvSpPr>
        <p:spPr>
          <a:xfrm>
            <a:off x="7521480" y="5973840"/>
            <a:ext cx="1008000" cy="5763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уждаю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100000">
                                      <p:cBhvr>
                                        <p:cTn id="4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2:15:44Z</dcterms:created>
  <dc:creator>Николай Бирюков / Nikolai Biryukov</dc:creator>
  <dc:description>Редакция декабря 2009 г.</dc:description>
  <dc:language>en-US</dc:language>
  <cp:lastModifiedBy>LEGION</cp:lastModifiedBy>
  <dcterms:modified xsi:type="dcterms:W3CDTF">2014-11-11T09:36:04Z</dcterms:modified>
  <cp:revision>455</cp:revision>
  <dc:subject>Основы философии - Тема 5, часть 2</dc:subject>
  <dc:title>Философия Аристотеля: теория познания и логика</dc:title>
</cp:coreProperties>
</file>